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625C-F76A-4ACE-895F-0650B4162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440"/>
            <a:ext cx="822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634D-4874-4610-A22E-082162817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44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44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1D54-EE52-4FAB-83BC-E5E451CB5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0980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0980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44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44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44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BE3D-76DC-422A-846A-681F4AD49F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EEFF-0304-4F0C-9648-48784B454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2B5D-88E2-44A9-8683-4326F406A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0AD7-0AAF-4B43-8F44-C78B137AE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FCAA-0E8C-445D-851C-346A99450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C208-8075-4612-A560-88B393252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44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47E5-87F5-45F7-A056-876DA8E9D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44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9EA1-D092-4534-AF8F-D9EB3A99C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440"/>
            <a:ext cx="822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AE3C-314D-4492-A6E3-86920DA02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0" y="6460920"/>
            <a:ext cx="7143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9920" y="646092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C9A5-39A6-4000-9969-CE22084B1E14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000" y="956880"/>
            <a:ext cx="8658000" cy="49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Campionati Na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606760" y="3902040"/>
            <a:ext cx="402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6445080"/>
            <a:ext cx="893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rgio Pagano – Seminario di Rimini 13/6/2021 – revisione 20/6/2021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8216640" y="64911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DBF5-3FD0-4027-871C-7F182CF7DA48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7E0-5775-4387-BF81-73B715D45095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riteri di ammissione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Sono ammessi di diritto alla finale CIGU18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hi è in possesso almeno della categoria 2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3N che concludono regolarmente almeno un torneo di qualif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campioni usc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ildcard regionali pari al 10% dei partecipanti della regione alla precedente fi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0987-F31F-4194-AEA4-5DE433002968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tranieri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Gli stranieri non sono ammessi ai seguenti campionati individu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IU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7A95-D164-435E-A9ED-FA8E2D4F164F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tranieri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Gli stranieri sono ammessi al </a:t>
            </a:r>
            <a:r>
              <a:rPr b="1" lang="it-IT" sz="3200" spc="-1" strike="noStrike">
                <a:solidFill>
                  <a:srgbClr val="00b050"/>
                </a:solidFill>
                <a:latin typeface="Times New Roman"/>
              </a:rPr>
              <a:t>CIGU18</a:t>
            </a: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 se tutte le seguenti condizioni sono verific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esidenti in 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esserati FSI almeno una volta nei 5 anni prece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imostrano di frequentare la scuola o lavorare in Italia nell’anno in co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in possesso di Elo FIDE, la sigla nazione dev’essere 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DAD9-E45C-42DC-8132-CB3CA3C5FB51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tranieri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Gli stranieri sono ammessi al </a:t>
            </a:r>
            <a:r>
              <a:rPr b="1" lang="it-IT" sz="3200" spc="-1" strike="noStrike">
                <a:solidFill>
                  <a:srgbClr val="00b050"/>
                </a:solidFill>
                <a:latin typeface="Times New Roman"/>
              </a:rPr>
              <a:t>CISU16</a:t>
            </a: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 se sono residenti in Italia che risultino tesserati alla FSI nell’anno in cui intendono partecipare al Campionato e l’anno precedente in un vivaio giovanile di un affiliato o che abbiano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in precedenza</a:t>
            </a: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 partecipato ad almeno una tappa del Campionato Italiano Under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 (fase provinciale, fase regionale o finale naziona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214-6DEB-422E-819F-223B8E57A182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tranieri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Le straniere sono ammesse al </a:t>
            </a:r>
            <a:r>
              <a:rPr b="1" lang="it-IT" sz="3200" spc="-1" strike="noStrike">
                <a:solidFill>
                  <a:srgbClr val="00b050"/>
                </a:solidFill>
                <a:latin typeface="Times New Roman"/>
              </a:rPr>
              <a:t>CISF</a:t>
            </a: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 senza limitazioni 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ittadine comunitarie o equiparate (intendendosi come tali le cittadine di paesi che hanno sottoscritto con l’Italia trattati di libera circolazione e per i quali, comunque, non sia richiesto visto di ingresso in Italia) tesserate per la F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xtracomunitarie residenti in Italia tesserate per la F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C592-8A1F-42F6-B928-82BC91AA48AA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Stranieri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b050"/>
                </a:solidFill>
                <a:latin typeface="Times New Roman"/>
              </a:rPr>
              <a:t>Gli stranieri sono ammessi al </a:t>
            </a:r>
            <a:r>
              <a:rPr b="1" lang="it-IT" sz="2900" spc="-1" strike="noStrike">
                <a:solidFill>
                  <a:srgbClr val="00b050"/>
                </a:solidFill>
                <a:latin typeface="Times New Roman"/>
              </a:rPr>
              <a:t>CIS</a:t>
            </a:r>
            <a:r>
              <a:rPr b="0" lang="it-IT" sz="2900" spc="-1" strike="noStrike">
                <a:solidFill>
                  <a:srgbClr val="00b050"/>
                </a:solidFill>
                <a:latin typeface="Times New Roman"/>
              </a:rPr>
              <a:t> senza limitazioni se possono partecipare al CIGU18, mentr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Times New Roman"/>
              </a:rPr>
              <a:t>cittadini comunitari o equiparati (intendendosi come tali i cittadini di paesi che hanno sottoscritto con l’Italia trattati di libera circolazione e per i quali, comunque, non sia richiesto visto di ingresso in Italia) tesserati per la FSI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Times New Roman"/>
              </a:rPr>
              <a:t>extracomunitari residenti in Italia tesserati per la FSI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possono essere schierati senza limiti nelle serie B, C e Promozione; uno solo in Master, A1 e A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508D-16C2-45E0-B08B-6A6C098E1024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vid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7796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050"/>
                </a:solidFill>
                <a:latin typeface="Times New Roman"/>
              </a:rPr>
              <a:t>A causa del Covid, nel 2020 è stato disputato soltanto il CISE, e un numero limitato di fasi locali di CIA e CIGU18. Di conseguen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il CIA, sono stati aboliti i provinciali e rivisti i criteri di ammissione alla semifinale (2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il CIG, nella finale si è introdotta la fascia U19 aperta agli allora diciottenni qualificati dai tornei disputati prima dell’interruzione per Covid; i già qualificati accedono all’eventuale nuova fascia; sono previsti solo Provinciali e Regionali a tempo Standard, con incremento delle percentuali di qualificazione (25% e 30%) e del minimo di punti (almeno 1,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BD27-D035-4D7A-B270-E6C66F2D936B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ovid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77796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b050"/>
                </a:solidFill>
                <a:latin typeface="Times New Roman"/>
              </a:rPr>
              <a:t>Nel 2020 si sono svolte edizioni online di CIA e CIGU18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b050"/>
                </a:solidFill>
                <a:latin typeface="Times New Roman"/>
              </a:rPr>
              <a:t>Vanno considerate come edizioni sperimentali, ma è molto probabile che verranno rese permanenti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b050"/>
                </a:solidFill>
                <a:latin typeface="Times New Roman"/>
              </a:rPr>
              <a:t>Al momento tuttavia non sono elencate tra i tornei validi per titoli previsti dal Regolamento Tecnico Federa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b050"/>
                </a:solidFill>
                <a:latin typeface="Times New Roman"/>
              </a:rPr>
              <a:t>Tuttavia l’RTF prevede la possibilità di assegnare titoli (individuali o a squadre) per «altre manifestazioni» riconosciute dalla FSI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1EEF-2699-44D5-9919-DB891919505A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55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Dibattito / Doma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7796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0" lang="it-IT" sz="9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it-IT" sz="9600" spc="-1" strike="noStrike">
                <a:solidFill>
                  <a:srgbClr val="00b050"/>
                </a:solidFill>
                <a:latin typeface="Times New Roman"/>
              </a:rPr>
              <a:t>	</a:t>
            </a:r>
            <a:r>
              <a:rPr b="0" lang="it-IT" sz="9600" spc="-1" strike="noStrike">
                <a:solidFill>
                  <a:srgbClr val="00b050"/>
                </a:solidFill>
                <a:latin typeface="Times New Roman"/>
              </a:rPr>
              <a:t>	</a:t>
            </a:r>
            <a:r>
              <a:rPr b="0" lang="it-IT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3B5D-8062-4C7C-860E-47B315A1B174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351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 Campionati e la loro tip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351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riteri di am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351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rani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351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351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battito/Dom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2C47-921C-4A3C-9605-9D4AA82D113E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 Campionati e la loro tipolo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Times New Roman"/>
              </a:rPr>
              <a:t>Campionato Italiano Seniores 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f0"/>
                </a:solidFill>
                <a:latin typeface="Times New Roman"/>
              </a:rPr>
              <a:t>Campionato Italiano a Squadre C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ampionato Italiano Assoluto 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ampionato Italiano under 20 CIU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ampionato Italiano Femminile C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ampionato Italiano under 16 a squadre CISU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ampionato Italiano a Squadre Femminile CIS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Campionato Italiano under 18 CIGU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A5E-C964-4606-8C5E-511A3C95BD90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riteri di ammissione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Il CISE è un torneo Open in fase unica (suddiviso un due tornei distinti Over 50 e Over 65), quindi le sole norme di ammissione riguardano l’età e la nazionalità. Gli Over 65 possono optare per la partecipazione al torneo Over 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’ammissione alle serie del CIS dipende dai risultati ottenuti nell’edizione precedente (promozioni/retrocessioni). Eventuali posti vacanti possono essere colmati dalla Direzione Nazion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79B5-B134-4236-BD49-0325448B86C2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riteri di ammissione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L’ammissione al CIA avviene per fa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I primi 3 dell’anno precedente, i primi 4 per Elo, il campione U20 in carica e una wildcard accedono direttamente alla fi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hi ha rating almeno di 2100 o titolo almeno di Maestro, e i primi 10 (sotto i 2100) dell’open di qualificazione dell’anno precedente accedono direttamente alla Semifi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M sotto i 2100 accedono direttamente ai Quarti di fi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E37E-066D-4335-83D0-245694414523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riteri di ammissione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Gli altri partono dagli Otta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gli Ottavi ai Quarti: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-   Dai Quarti alla Semifinale: 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-   Dalla Semifinale alla Finale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percentuali vanno calcolate sui soli aventi diritto (società della stessa provincia o regione; non già qualificati per una fase success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EB0B-85E0-4002-8B85-2B08E19028CA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riteri di ammissione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L’ammissione a CIU20 e CIF avviene per fa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50"/>
                </a:solidFill>
                <a:latin typeface="Times New Roman"/>
              </a:rPr>
              <a:t>I primi 2 dell’anno precedente, i primi 2 per Elo, il/la campione(ssa) U18 in carica e una wildcard accedono direttamente alla fi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Gli altri (purché over 18 per il CIU20) partecipano alla semifinale CIA, dalla quale si qualificano i primi 2 U20, la prima U20 e la prima (non considerando la prima U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donne U20 optano per l’una o l’altra finale prima dell’inizio della semifinale CIA (se non optano, concorrono per il C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FEEC-2DD9-4AF8-9394-230806072C24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riteri di ammissione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b050"/>
                </a:solidFill>
                <a:latin typeface="Times New Roman"/>
              </a:rPr>
              <a:t>L’ammissione alla finale CISU16 e CISF avviene dalla fase regional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b050"/>
                </a:solidFill>
                <a:latin typeface="Times New Roman"/>
              </a:rPr>
              <a:t>La fase regionale è Open, e si qualifica il 30% per CISU16 per ogni fascia: U10-U12-U14-U16); il 50% per CIS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Times New Roman"/>
              </a:rPr>
              <a:t>Se il CISU16 regionale non ha luogo, ogni società può iscrivere una squadra per fascia alla fase regionale della regione più vicin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Times New Roman"/>
              </a:rPr>
              <a:t>Se il CISF regionale non ha luogo, la regione ha diritto a una wildcard per la fina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Times New Roman"/>
              </a:rPr>
              <a:t>Le prime due dell’anno precedente accedono di diritto alla finale CIS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4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F29B-16EC-4F93-A8DF-49667110DA2F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Criteri di ammissione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45640"/>
            <a:ext cx="82296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b050"/>
                </a:solidFill>
                <a:latin typeface="Times New Roman"/>
              </a:rPr>
              <a:t>L’ammissione a CIGU18 avviene per fasi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b050"/>
                </a:solidFill>
                <a:latin typeface="Times New Roman"/>
              </a:rPr>
              <a:t>Le gare di qualificazione sono tornei giovanili, campionati provinciali e campionati regionali. Ammessa la partecipazione a una fascia d’età superiore, e per le ragazze alla fascia assolu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ff"/>
                </a:solidFill>
                <a:latin typeface="Times New Roman"/>
              </a:rPr>
              <a:t>Almeno 14 partecipanti (6 per provinciali, regionali e tornei solo femminili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ff"/>
                </a:solidFill>
                <a:latin typeface="Times New Roman"/>
              </a:rPr>
              <a:t>Si qualificano (per ogni fascia, escludendo dal conteggio i giocatori non NC): il 25% dai regionali (con almeno mezzo punto); il 15% dai provinciali (con almeno mezzo punto); il 10% dai tornei (con almeno il 40% dei punti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Campionati Nazionali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30:50Z</dcterms:created>
  <dc:creator/>
  <dc:description/>
  <dc:language>en-US</dc:language>
  <cp:lastModifiedBy>Sergio Pagano</cp:lastModifiedBy>
  <dcterms:modified xsi:type="dcterms:W3CDTF">2021-06-20T15:09:19Z</dcterms:modified>
  <cp:revision>252</cp:revision>
  <dc:subject/>
  <dc:title>Mosse Illegali e Irregolari:  Definizioni, azioni da intraprendere, sanzioni</dc:title>
</cp:coreProperties>
</file>