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700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795640" y="-360"/>
            <a:ext cx="443700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79564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A59-DA4A-408E-8932-0C0687B63C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6487-DE7C-4D2C-AA2D-FA36CDF5AF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BF7-6FAE-4446-B1C1-A9636AB713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EEE-DE3D-488F-AE65-4BC4321843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AB6-56E4-4835-B5E6-314B00DF1E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418-3FA6-466A-9296-651DA3058F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1A3A-2ED7-4B16-A0F6-1091BDB18F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64A-2685-4C01-8F82-9A8E424801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4B61-3B62-4C09-B674-2E5382DAEC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38F5-689E-4BD3-A0A3-E9CC11F045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FCA-C995-442F-A482-FC06FAEF07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08D1-8CC3-4882-8061-30BB1C16A9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7095-C254-4AFB-87FE-8A4F97FDE1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6FD5-8071-4A13-8222-A1650EA972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796000" y="6742080"/>
            <a:ext cx="443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9601-520F-4EDA-9B1D-DB697A8AF0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51040" cy="2664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D71E-7F02-4D77-8E0F-DC2B3A621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440"/>
            <a:ext cx="822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7932-2B7B-49A4-AC3E-6375A9489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5AD0-031F-4A3E-B475-D5395B45F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980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980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44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44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440"/>
            <a:ext cx="264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A47C-EE4B-43C1-AD1E-7D88FEF6B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BF82-C348-437D-8B9F-8E614A7C9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5219-E80C-499D-AD57-FA8F108E3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BF88-3D57-499F-9137-18A8B80F5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B3EA-8227-4D51-9D15-B87A8238D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EA3F-3466-4D25-8733-2ABE03E8A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9087-10F2-47B8-9EC8-F4435471D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44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EABB-B4F9-461D-BF53-3C758F176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062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9800"/>
            <a:ext cx="40158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440"/>
            <a:ext cx="822960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5C56-A6A7-45DD-83E8-5BAEA7498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980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460920"/>
            <a:ext cx="7143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sistema Svizzero Dub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9920" y="646092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0335-2769-47F2-94A1-3BD7CB16F20A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disney spada roccia (1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olo 1"/>
          <p:cNvSpPr/>
          <p:nvPr/>
        </p:nvSpPr>
        <p:spPr>
          <a:xfrm>
            <a:off x="328680" y="0"/>
            <a:ext cx="8497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400" spc="-1" strike="noStrike">
                <a:solidFill>
                  <a:srgbClr val="000000"/>
                </a:solidFill>
                <a:latin typeface="VAG Round"/>
              </a:rPr>
              <a:t>Formazione continua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328680" y="5238720"/>
            <a:ext cx="8532720" cy="1618920"/>
            <a:chOff x="328680" y="5238720"/>
            <a:chExt cx="8532720" cy="1618920"/>
          </a:xfrm>
        </p:grpSpPr>
        <p:grpSp>
          <p:nvGrpSpPr>
            <p:cNvPr id="51" name="Group 13"/>
            <p:cNvGrpSpPr/>
            <p:nvPr/>
          </p:nvGrpSpPr>
          <p:grpSpPr>
            <a:xfrm>
              <a:off x="328680" y="6051240"/>
              <a:ext cx="8524800" cy="806400"/>
              <a:chOff x="328680" y="6051240"/>
              <a:chExt cx="8524800" cy="806400"/>
            </a:xfrm>
          </p:grpSpPr>
          <p:sp>
            <p:nvSpPr>
              <p:cNvPr id="52" name="Titolo 1"/>
              <p:cNvSpPr/>
              <p:nvPr/>
            </p:nvSpPr>
            <p:spPr>
              <a:xfrm>
                <a:off x="328680" y="6076440"/>
                <a:ext cx="8497800" cy="7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4200" spc="-1" strike="noStrike">
                    <a:solidFill>
                      <a:srgbClr val="000000"/>
                    </a:solidFill>
                    <a:latin typeface="VAG Round"/>
                  </a:rPr>
                  <a:t>Federazione Scacchistica Italiana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itolo 1"/>
              <p:cNvSpPr/>
              <p:nvPr/>
            </p:nvSpPr>
            <p:spPr>
              <a:xfrm>
                <a:off x="355680" y="6051240"/>
                <a:ext cx="849780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4200" spc="-1" strike="noStrike">
                    <a:solidFill>
                      <a:srgbClr val="00ff00"/>
                    </a:solidFill>
                    <a:latin typeface="VAG Round"/>
                  </a:rPr>
                  <a:t>Federazione</a:t>
                </a:r>
                <a:r>
                  <a:rPr b="0" lang="it-IT" sz="4200" spc="-1" strike="noStrike">
                    <a:solidFill>
                      <a:srgbClr val="ffff00"/>
                    </a:solidFill>
                    <a:latin typeface="VAG Round"/>
                  </a:rPr>
                  <a:t> </a:t>
                </a:r>
                <a:r>
                  <a:rPr b="0" lang="it-IT" sz="4200" spc="-1" strike="noStrike">
                    <a:solidFill>
                      <a:srgbClr val="ffffff"/>
                    </a:solidFill>
                    <a:latin typeface="VAG Round"/>
                  </a:rPr>
                  <a:t>Scacchistica</a:t>
                </a:r>
                <a:r>
                  <a:rPr b="0" lang="it-IT" sz="4200" spc="-1" strike="noStrike">
                    <a:solidFill>
                      <a:srgbClr val="ffff00"/>
                    </a:solidFill>
                    <a:latin typeface="VAG Round"/>
                  </a:rPr>
                  <a:t> </a:t>
                </a:r>
                <a:r>
                  <a:rPr b="0" lang="it-IT" sz="4200" spc="-1" strike="noStrike">
                    <a:solidFill>
                      <a:srgbClr val="ff0000"/>
                    </a:solidFill>
                    <a:latin typeface="VAG Round"/>
                  </a:rPr>
                  <a:t>Italiana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4"/>
            <p:cNvGrpSpPr/>
            <p:nvPr/>
          </p:nvGrpSpPr>
          <p:grpSpPr>
            <a:xfrm>
              <a:off x="328680" y="5238720"/>
              <a:ext cx="8532720" cy="939600"/>
              <a:chOff x="328680" y="5238720"/>
              <a:chExt cx="8532720" cy="939600"/>
            </a:xfrm>
          </p:grpSpPr>
          <p:sp>
            <p:nvSpPr>
              <p:cNvPr id="55" name="Titolo 1"/>
              <p:cNvSpPr/>
              <p:nvPr/>
            </p:nvSpPr>
            <p:spPr>
              <a:xfrm>
                <a:off x="328680" y="5254560"/>
                <a:ext cx="8497800" cy="92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6400" spc="-1" strike="noStrike">
                    <a:solidFill>
                      <a:srgbClr val="000000"/>
                    </a:solidFill>
                    <a:latin typeface="VAG Round"/>
                  </a:rPr>
                  <a:t>Settore Arbitrale</a:t>
                </a:r>
                <a:endParaRPr b="0" lang="en-US" sz="6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itolo 1"/>
              <p:cNvSpPr/>
              <p:nvPr/>
            </p:nvSpPr>
            <p:spPr>
              <a:xfrm>
                <a:off x="365040" y="5238720"/>
                <a:ext cx="84963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6400" spc="-1" strike="noStrike">
                    <a:solidFill>
                      <a:srgbClr val="ffff00"/>
                    </a:solidFill>
                    <a:latin typeface="VAG Round"/>
                  </a:rPr>
                  <a:t>Settore Arbitrale</a:t>
                </a:r>
                <a:endParaRPr b="0" lang="en-US" sz="6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uppo 1"/>
          <p:cNvGrpSpPr/>
          <p:nvPr/>
        </p:nvGrpSpPr>
        <p:grpSpPr>
          <a:xfrm>
            <a:off x="27000" y="-39600"/>
            <a:ext cx="9144000" cy="1719000"/>
            <a:chOff x="27000" y="-39600"/>
            <a:chExt cx="9144000" cy="1719000"/>
          </a:xfrm>
        </p:grpSpPr>
        <p:sp>
          <p:nvSpPr>
            <p:cNvPr id="58" name="Titolo 1"/>
            <p:cNvSpPr/>
            <p:nvPr/>
          </p:nvSpPr>
          <p:spPr>
            <a:xfrm>
              <a:off x="27000" y="272160"/>
              <a:ext cx="914400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400" spc="-1" strike="noStrike">
                  <a:solidFill>
                    <a:srgbClr val="ff0000"/>
                  </a:solidFill>
                  <a:latin typeface="VAG Round"/>
                </a:rPr>
                <a:t>Formazione contin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400" spc="-1" strike="noStrike">
                  <a:solidFill>
                    <a:srgbClr val="ff0000"/>
                  </a:solidFill>
                  <a:latin typeface="VAG Round"/>
                </a:rPr>
                <a:t>stato dell’arte 2O21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itolo 1"/>
            <p:cNvSpPr/>
            <p:nvPr/>
          </p:nvSpPr>
          <p:spPr>
            <a:xfrm>
              <a:off x="322920" y="-39600"/>
              <a:ext cx="8496360" cy="17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400" spc="-1" strike="noStrike">
                  <a:solidFill>
                    <a:srgbClr val="ffff00"/>
                  </a:solidFill>
                  <a:latin typeface="VAG Round"/>
                </a:rPr>
                <a:t>Formazione contin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400" spc="-1" strike="noStrike">
                  <a:solidFill>
                    <a:srgbClr val="ffff00"/>
                  </a:solidFill>
                  <a:latin typeface="VAG Round"/>
                </a:rPr>
                <a:t>stato dell’arte 2O21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1D89-D6DD-40DE-8198-8BB18EA92C6A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tuazione per Reg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33320" y="838080"/>
            <a:ext cx="76773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C666-0620-4167-ABA2-E955C3A297D6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tuazione per qualif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11200" y="689040"/>
            <a:ext cx="812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A3A0-C8F9-4D14-B9D4-7878FAEBA7A2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tuazione anali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70000" y="642960"/>
            <a:ext cx="860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umetto 4 15"/>
          <p:cNvSpPr/>
          <p:nvPr/>
        </p:nvSpPr>
        <p:spPr>
          <a:xfrm>
            <a:off x="6373800" y="3576600"/>
            <a:ext cx="2576520" cy="1182600"/>
          </a:xfrm>
          <a:prstGeom prst="cloudCallout">
            <a:avLst>
              <a:gd name="adj1" fmla="val -81560"/>
              <a:gd name="adj2" fmla="val 0"/>
            </a:avLst>
          </a:prstGeom>
          <a:solidFill>
            <a:srgbClr val="ffff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30E-DD2F-4882-97A3-BC7C593AE8EB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Qualche caso notev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uppo 2"/>
          <p:cNvGrpSpPr/>
          <p:nvPr/>
        </p:nvGrpSpPr>
        <p:grpSpPr>
          <a:xfrm>
            <a:off x="455760" y="711360"/>
            <a:ext cx="5425920" cy="5500440"/>
            <a:chOff x="455760" y="711360"/>
            <a:chExt cx="5425920" cy="55004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455760" y="711360"/>
              <a:ext cx="5425920" cy="55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e 8"/>
            <p:cNvSpPr/>
            <p:nvPr/>
          </p:nvSpPr>
          <p:spPr>
            <a:xfrm>
              <a:off x="3935160" y="1066320"/>
              <a:ext cx="1560600" cy="64620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e 9"/>
            <p:cNvSpPr/>
            <p:nvPr/>
          </p:nvSpPr>
          <p:spPr>
            <a:xfrm>
              <a:off x="3935160" y="3680280"/>
              <a:ext cx="1560600" cy="97416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e 10"/>
            <p:cNvSpPr/>
            <p:nvPr/>
          </p:nvSpPr>
          <p:spPr>
            <a:xfrm>
              <a:off x="3935160" y="2747160"/>
              <a:ext cx="1560600" cy="646200"/>
            </a:xfrm>
            <a:prstGeom prst="ellipse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umetto 4 3"/>
          <p:cNvSpPr/>
          <p:nvPr/>
        </p:nvSpPr>
        <p:spPr>
          <a:xfrm>
            <a:off x="6373800" y="789120"/>
            <a:ext cx="2576520" cy="1182600"/>
          </a:xfrm>
          <a:prstGeom prst="cloudCallout">
            <a:avLst>
              <a:gd name="adj1" fmla="val -81560"/>
              <a:gd name="adj2" fmla="val 0"/>
            </a:avLst>
          </a:prstGeom>
          <a:solidFill>
            <a:srgbClr val="ffff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sellaDiTesto 4"/>
          <p:cNvSpPr/>
          <p:nvPr/>
        </p:nvSpPr>
        <p:spPr>
          <a:xfrm>
            <a:off x="6512040" y="882720"/>
            <a:ext cx="2300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Times New Roman"/>
              </a:rPr>
              <a:t>Qualche credito è scaduto, e l’aggiornamento non è più valido. L’anno dell’ultimo seminario  però resta 2021 - </a:t>
            </a:r>
            <a:r>
              <a:rPr b="1" lang="it-IT" sz="1200" spc="-1" strike="noStrike">
                <a:solidFill>
                  <a:srgbClr val="0000ff"/>
                </a:solidFill>
                <a:latin typeface="Times New Roman"/>
              </a:rPr>
              <a:t>non</a:t>
            </a:r>
            <a:r>
              <a:rPr b="0" lang="it-IT" sz="1200" spc="-1" strike="noStrike">
                <a:solidFill>
                  <a:srgbClr val="0000ff"/>
                </a:solidFill>
                <a:latin typeface="Times New Roman"/>
              </a:rPr>
              <a:t> viene aggior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14"/>
          <p:cNvSpPr/>
          <p:nvPr/>
        </p:nvSpPr>
        <p:spPr>
          <a:xfrm>
            <a:off x="6512040" y="3844800"/>
            <a:ext cx="230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Times New Roman"/>
              </a:rPr>
              <a:t>Il totale dei crediti sarebbe sufficiente, ma </a:t>
            </a:r>
            <a:r>
              <a:rPr b="1" lang="it-IT" sz="1200" spc="-1" strike="noStrike">
                <a:solidFill>
                  <a:srgbClr val="0000ff"/>
                </a:solidFill>
                <a:latin typeface="Times New Roman"/>
              </a:rPr>
              <a:t>mancano i crediti minimi in un’ar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umetto 4 16"/>
          <p:cNvSpPr/>
          <p:nvPr/>
        </p:nvSpPr>
        <p:spPr>
          <a:xfrm>
            <a:off x="6373800" y="2479680"/>
            <a:ext cx="2576520" cy="1182600"/>
          </a:xfrm>
          <a:prstGeom prst="cloudCallout">
            <a:avLst>
              <a:gd name="adj1" fmla="val -81560"/>
              <a:gd name="adj2" fmla="val 0"/>
            </a:avLst>
          </a:prstGeom>
          <a:solidFill>
            <a:srgbClr val="ffff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17"/>
          <p:cNvSpPr/>
          <p:nvPr/>
        </p:nvSpPr>
        <p:spPr>
          <a:xfrm>
            <a:off x="6512040" y="2655720"/>
            <a:ext cx="23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Times New Roman"/>
              </a:rPr>
              <a:t>Il totale dei crediti è </a:t>
            </a:r>
            <a:r>
              <a:rPr b="1" lang="it-IT" sz="1200" spc="-1" strike="noStrike">
                <a:solidFill>
                  <a:srgbClr val="0000ff"/>
                </a:solidFill>
                <a:latin typeface="Times New Roman"/>
              </a:rPr>
              <a:t>zero! </a:t>
            </a:r>
            <a:r>
              <a:rPr b="0" lang="it-IT" sz="1200" spc="-1" strike="noStrike">
                <a:solidFill>
                  <a:srgbClr val="0000ff"/>
                </a:solidFill>
                <a:latin typeface="Times New Roman"/>
              </a:rPr>
              <a:t>Per ripristinare  l’aggiornamento occorreranno seminari per (almeno) 12 cred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disney spada roccia (1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1160" y="4235400"/>
            <a:ext cx="91440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Lucida Calligraphy"/>
              </a:rPr>
              <a:t>È tutto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Lucida Calligraphy"/>
              </a:rPr>
              <a:t>Grazie per l’’attenzion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4221000"/>
            <a:ext cx="91440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Lucida Calligraphy"/>
              </a:rPr>
              <a:t>È tutt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Lucida Calligraphy"/>
              </a:rPr>
              <a:t>Grazie per l’’attenzio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E14E-EC51-4B10-B998-072BF61AF466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280" y="926640"/>
            <a:ext cx="7937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garantire il continuo aggiornamento professionale del Settore Arbit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migliorare ed ampliare le opportunità di formazione, e garantirne la qu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uniformare la preparazione degli Arbi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FCE-B410-4B29-BBEB-F6963E977173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ormazione min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7280" y="926640"/>
            <a:ext cx="7937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2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≥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12 crediti negli ultimi 24 mesi, di c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2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≥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2 crediti per ciascuna area form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 crediti valgono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24 mes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dalla rati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E793-5072-498A-A129-0AA38BF6644B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rediti formativ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280" y="926640"/>
            <a:ext cx="7937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’aggiornamento del portafoglio avviene alla scadenza di ciascun trimestre s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per chi ha soddisfatto il requisito formativo, all’aggiornamento viene registrato il campo «ultimo seminario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l campo “ultimo seminario” (DADI) registra quindi l’ultimo anno solare in cui il requisito è stato soddisfa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457-D911-4FDD-BAF9-8B348DAA65AD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ormazione erog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73120" y="1349280"/>
            <a:ext cx="79963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141A-D028-4591-A07A-5B89B3426C54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ormazione erog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2920" y="1287360"/>
            <a:ext cx="83167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958F-9793-4A22-92C9-A650F4F74BC2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ormazione erog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12920" y="1287360"/>
            <a:ext cx="83167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643B-3C14-4774-ACA8-E9D4A877115F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tuazione arbitri aggiorna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84279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piè di pagina 3"/>
          <p:cNvSpPr/>
          <p:nvPr/>
        </p:nvSpPr>
        <p:spPr>
          <a:xfrm>
            <a:off x="0" y="6461280"/>
            <a:ext cx="714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SI - Settore Arbitrale - Formazione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egnaposto numero diapositiva 4"/>
          <p:cNvSpPr/>
          <p:nvPr/>
        </p:nvSpPr>
        <p:spPr>
          <a:xfrm>
            <a:off x="7010280" y="64612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5DC3-48A9-47E0-881F-0F1C06BF9E57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tuazione validità aggiorn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98600" y="1319040"/>
            <a:ext cx="814536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30:50Z</dcterms:created>
  <dc:creator>mario held</dc:creator>
  <dc:description/>
  <dc:language>en-US</dc:language>
  <cp:lastModifiedBy>mh</cp:lastModifiedBy>
  <cp:lastPrinted>2020-02-14T11:22:15Z</cp:lastPrinted>
  <dcterms:modified xsi:type="dcterms:W3CDTF">2021-06-09T16:44:04Z</dcterms:modified>
  <cp:revision>509</cp:revision>
  <dc:subject/>
  <dc:title>The new FIDE C.04 draft proposal for Abu Dhabi 2015</dc:title>
</cp:coreProperties>
</file>